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move the slide</a:t>
            </a:r>
            <a:endParaRPr b="0" lang="en-US" sz="5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FEF3-3E53-496C-A019-D4DDDF5FE3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gure added ,a moral texture; the character of the dandy was heavily autobiographical and often a stand-in  for Wilde himself, a witty, overdressed, self-styled philosopher who speaks in epigrams and paradoxes, ridicules the cant and hypocrisy of society’s moral arbiters, and self-deprecatingly presents himself as trivial, shallow, and ineffectual.  In fact, the dandy in these plays always proves to be deeply moral and essential to the happy resolution of the p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de had ability to produce “spontaneous sparkling conversation and witty remarks.”  Often topic of many literary circle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orm bills reduced the power fo upper-class landowners by redistributing parliamentary representation.  Demonstrated that social change could take place peacefully, without violence, marked emergence of middle class as dominate fo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ression of 1840s – known as The Hungry Forties because so many people were literally starving. Economic conditions led to  protest and rioting.  Lower classes suffered from potato blight in Ireland in 1845 &amp; from Corn Laws – import tariffs that protected price of grain for English farmers but mad price of bread and other foods very high.  Repeal of Corn Laws in 1846, establishment of Free Trade moved England towards greater prosperity &amp; living conditions that characterize the later years of Victorian Age.  Real wages did not keep up with price of urban living. Along with repeal of Corn Laws and the development of the railroad in 1850, England emerged from the de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eme repression –  terms “dark &amp; white” meat used to avoid “breasts &amp; thig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etiquette very strict; manners, etc.  (upper cla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associated with materiali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arrested for distributing information about sexually transmitted diseases. Double standards for sexes:  adulterous women (but not male counterparts) seen as “falle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sses, cruelties, and hypocrisies of all these repressions were obvious to Victorians.  But the codes and barriers fo decorum changed slowly because they were part of the ideology of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udery and social order were intended to control licentiousness that the Victorians associated with political revolutions of the 18</a:t>
            </a:r>
            <a:r>
              <a:rPr b="0" lang="en-US" sz="1200" spc="-1" strike="noStrike" baseline="30000">
                <a:solidFill>
                  <a:srgbClr val="000000"/>
                </a:solidFill>
                <a:latin typeface="Arial"/>
              </a:rPr>
              <a:t>th</a:t>
            </a:r>
            <a:r>
              <a:rPr b="0" lang="en-US" sz="1200" spc="-1" strike="noStrike">
                <a:solidFill>
                  <a:srgbClr val="000000"/>
                </a:solidFill>
                <a:latin typeface="Arial"/>
              </a:rPr>
              <a:t> Century and the social corruption of the regency of George 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DE4CD-C428-471A-B2F7-4463A5B90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59017D-3121-4F99-9259-C0873D803A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8E618-CBBA-4BCB-959F-D00E2ADEDA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1CDC82-2684-4F95-A3A3-67BCBDDE5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D492F-B51E-4DE7-BE70-F02FD3A657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805419-AB46-49F2-BD4F-5B77256881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96798B-2426-4C1F-81E3-275DA2A38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1E5124-5B8B-46C3-8C16-369D01521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CD2AF7-9B59-4204-821E-61B494DCC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F5063-3A0C-41FB-9F16-86A03BBE2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A8888B-3AFE-4E81-85DD-8058029F7E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2FF95-3827-4D34-A544-E1D717862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77D56-8DC2-4705-B716-BD3FE98C2C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BE8EA-E9D8-4AC9-987F-C54DB0FD1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558E6-7C26-4A68-9C1D-D28B8B2C8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6E3058-2D17-40A6-B697-28EE575117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BCD1A-7A55-437B-97F6-6B87DB36B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B058-A002-4691-89DC-9358F31D4C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345EB-5FFE-44C7-92D5-214CA9810A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654F1-7052-4D87-B231-B89ADFEF1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DB552-5578-4F81-8B8E-64DFF9FA0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94FD9-E964-4266-9EA2-243974DD8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8BC17A-BD39-4995-B1FA-64762ECFB4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9630F-4122-4227-8F58-E4B7A356B5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89B33-1C1C-4D1A-863C-4CEAE0B4FF5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FE8C-93F8-4B60-932E-467161AB987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Victorian Period</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832-1900</a:t>
            </a:r>
            <a:endParaRPr b="0" lang="en-US" sz="32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orian writing reflects the dangers and benefits to rapid industrialization, while encouraging readers to examine closely their own understanding of the era’s progress.</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 in Dublin; father physician; mother writer (poetry/prominent figure in Dublin literary society)</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celled in classical literature (Trinity C.)</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cholarship to Magdalen College (Oxford)</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mous for brilliant conversation &amp; flamboyant manner of dress &amp; behavior</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Dandy” figure based himself</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udent of “aesthetic movement” – which rejected older Victorian insistence on moral purposed of art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lebrated value of “art for art’s sak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tled in Londo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cked Victorian notions about moral seriousness of great art</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eated art as the “supreme reality” and treated life as “fi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Importance of Being Earnest</a:t>
            </a:r>
            <a:r>
              <a:rPr b="0" lang="en-US" sz="3200" spc="-1" strike="noStrike">
                <a:solidFill>
                  <a:srgbClr val="ffffff"/>
                </a:solidFill>
                <a:latin typeface="Tahoma"/>
              </a:rPr>
              <a:t> (produced 1895) most famous comed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mplicated plot turns upon fortunes and misfortunes of two young upper-class Englishmen: </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hn Worthing and Algernon Moncrieff</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ach lives double life; creates another personality to escape tedious social/family obligations</a:t>
            </a:r>
            <a:endParaRPr b="0" lang="en-US" sz="2800" spc="-1" strike="noStrike">
              <a:solidFill>
                <a:srgbClr val="ffffff"/>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ot composed of events of the most improbable &amp; trivial significanc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l substance of play witty dialogu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cording to Wilde, trivial things should be treated seriously and serious things should be treated triviall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based on satirical double meaning:  “Ernest” is the name of fictitious character, also designates sincere aspir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king the “earnestness” of his Ernest the key to outrageous comedy, Wilde pokes fun at conventional seriousnes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s solemn moral language to frivolous and ridiculous acti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The Importance of Being Earnest</a:t>
            </a:r>
            <a:r>
              <a:rPr b="0" lang="en-US" sz="3200" spc="-1" strike="noStrike">
                <a:solidFill>
                  <a:srgbClr val="ffffff"/>
                </a:solidFill>
                <a:latin typeface="Tahoma"/>
              </a:rPr>
              <a:t> uses the following literary devic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adox:  seems contradictory but presents trut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erted logic:  words/phrases turned upside down reversing our expect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un:  play on words using word or phrase that has two meanings</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ry Devices continued</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pigram:  brief, witty, cleverly-expressed statement</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ody:  humorous mocking imitation of literary work</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atire: ridicules through humor</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rony:  something you don’t expect to happen</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eshadowing:  creates suspense through hints to the end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medic Ladder</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edy of Ideas (high comedy)</a:t>
            </a:r>
            <a:endParaRPr b="0" lang="en-US" sz="28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acters argue about ideas like politics, religion, sex, marriag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use wit, their clever language to mock their opponent in an argument.</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is a subtle way to satirize people and institutions like political parties, governments, churches, war, and marriage.</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edy of Manners (high comed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lot focuses on amorous intrigues among the upper classe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dialogue focuses on witty language.  Clever speech, insults and “put-downs” are traded between character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ety is often made up of cliques that are exclusive with certain groups as the in-crowd, other groups (the would-be-wits, desiring to be part of the witty crowd) and some (the witless) on the outside.</a:t>
            </a:r>
            <a:endParaRPr b="0" lang="en-US" sz="2400" spc="-1" strike="noStrike">
              <a:solidFill>
                <a:srgbClr val="ffffff"/>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een Victoria took throne in 1837 (at 18)</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ong reign, died in 1901 (at 82)</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gland became wealthiest nation </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tish Empire expansion </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he sun never sets on England.”</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Queen-empress over 200 million people living outside Great Britain</a:t>
            </a:r>
            <a:endParaRPr b="0" lang="en-US" sz="28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a, North America, South Pacific, etc.</a:t>
            </a:r>
            <a:endParaRPr b="0" lang="en-US" sz="2800" spc="-1" strike="noStrike">
              <a:solidFill>
                <a:srgbClr val="ffffff"/>
              </a:solidFill>
              <a:latin typeface="Tahoma"/>
            </a:endParaRPr>
          </a:p>
          <a:p>
            <a:pPr lvl="1" marL="7131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rce (can be combination of high/low)</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lot is full of coincidences, mistimings, mistaken identiti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acters are puppets of fate – they are twins, born to the wrong class, unable to marry, too poor, too rich, have loss of identity because of birth or fate or accident, or are (sometimes) twins separated, unaware of their doubl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car Wilde (1854-1900)</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ow Comed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bjects of the humor consists of dirty jokes, dirty gestures, sex, and elimination</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extremes of humor range from exaggeration to understatement with a focus on the physical like long noses, cross eyes, humped back and deformitie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hysical actions revolve around slapstick, pratfalls, loud noises, physical mishaps, collisions – all part of the humor of man encountering and uncooperative universe.</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strial Revolution - booms &amp; depressions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d new towns, goods, wealth, jobs for people climbing through middle clas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cial &amp; economic changes expressed in gradual political reform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rst Reform Bill in 1832 extended vote to all men who owned property worth 10 lb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Reform Act in 1867 gave the right to vote to working-class men (except agricultural work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for suffrage – did not succeed until 1918 (30 &amp; over)</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iversal adult suffrage 1928 extended vote to women at age 21</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actory Acts – limited child &amp; women labor</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te supported schools est. in 1870; compulsory in 1880; free in 1891</a:t>
            </a:r>
            <a:endParaRPr b="0" lang="en-US" sz="3200" spc="-1" strike="noStrike">
              <a:solidFill>
                <a:srgbClr val="ffffff"/>
              </a:solidFill>
              <a:latin typeface="Tahoma"/>
            </a:endParaRPr>
          </a:p>
          <a:p>
            <a:pPr marL="325800" indent="-32580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cy rate increased from 40% to 90% from 1840-1900.</a:t>
            </a:r>
            <a:endParaRPr b="0" lang="en-US" sz="3200" spc="-1" strike="noStrike">
              <a:solidFill>
                <a:srgbClr val="ffffff"/>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aradox of progres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ctorian – synonym for prude; extreme repression; even furniture legs had to be concealed under heavy cloth not to be “suggestive”</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ew ideas discussed &amp; debated by large segment of socie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oracious rea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llectual growth, change and adjustmen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orum &amp; Authority – Victorians saw themselves progressing morally &amp; intellectuall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werful middle-class obsessed with “gentility, decorum” = prudery/Victorianism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ensorship of writers: no mention of “sex, birth, or death”</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0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5000"/>
          </a:bodyPr>
          <a:p>
            <a:pPr marL="325800" indent="-3258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corum – powerful ideas about authority</a:t>
            </a:r>
            <a:endParaRPr b="0" lang="en-US" sz="32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ictorian private lives – autocratic father figure</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men – subject to male authority</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iddle-class women expected to marry &amp; make home a “refuge” for husband</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men had few occupations open to them</a:t>
            </a:r>
            <a:endParaRPr b="0" lang="en-US" sz="2800" spc="-1" strike="noStrike">
              <a:solidFill>
                <a:srgbClr val="ffffff"/>
              </a:solidFill>
              <a:latin typeface="Tahoma"/>
            </a:endParaRPr>
          </a:p>
          <a:p>
            <a:pPr lvl="1" marL="705600" indent="-2714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married women often portrayed by comedy by male writer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ellectual Progres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derstanding of earth, its creatures &amp; natural laws (geology, Darwin – theory of evolution)</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ustrialization of England depended on and supported science and technology.</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Victorian Period</a:t>
            </a:r>
            <a:endParaRPr b="0" lang="en-US" sz="4400" spc="-1" strike="noStrike">
              <a:solidFill>
                <a:srgbClr val="ffffcc"/>
              </a:solidFill>
              <a:latin typeface="Tahoma"/>
            </a:endParaRPr>
          </a:p>
        </p:txBody>
      </p:sp>
      <p:sp>
        <p:nvSpPr>
          <p:cNvPr id="1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terialism, secularism, vulgarity, and sheer waste that accompanied Victorian progress led some writers to wonder if their culture was really advancing by any measure.</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ust in transcendental power gave way to uncertainty &amp; spiritual doubt. </a:t>
            </a:r>
            <a:endParaRPr b="0" lang="en-US" sz="3200" spc="-1" strike="noStrike">
              <a:solidFill>
                <a:srgbClr val="ffffff"/>
              </a:solidFill>
              <a:latin typeface="Tahoma"/>
            </a:endParaRPr>
          </a:p>
          <a:p>
            <a:pPr lvl="1" marL="735480" indent="-28296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ate Victorian writers turned to a pessimistic exploration of the human struggle against indifferent natural forces.</a:t>
            </a:r>
            <a:endParaRPr b="0" lang="en-US" sz="2800" spc="-1" strike="noStrike">
              <a:solidFill>
                <a:srgbClr val="ffffff"/>
              </a:solidFill>
              <a:latin typeface="Tahoma"/>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6T01:05:20Z</dcterms:created>
  <dc:creator>User</dc:creator>
  <dc:description/>
  <dc:language>en-US</dc:language>
  <cp:lastModifiedBy>User</cp:lastModifiedBy>
  <dcterms:modified xsi:type="dcterms:W3CDTF">2007-04-16T16:08:24Z</dcterms:modified>
  <cp:revision>9</cp:revision>
  <dc:subject/>
  <dc:title>Victorian Period</dc:title>
</cp:coreProperties>
</file>